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5.png" ContentType="image/pn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03FE1-223A-4F7E-B199-F22D7850B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E2CCC-7134-41DC-BA54-6CF6E3005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742CC-E9EA-4997-AE54-7CC0DFC4D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3E11F-BE7A-4661-AD7A-DF0DBFB20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39229-6303-44C2-A3C6-5B7568877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0A5E2-748B-4B0A-BC42-62569FAD0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CD779-F900-4972-9D1F-41EC31045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21F67-2B07-4C37-8132-04253C666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D26DB-BA5A-4D75-94C7-FA0DB266D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41536-9950-4316-ADAF-E04B47249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5B4EB-FB50-49D1-AE2D-017A3EC3E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C7668-3EBD-4FC7-B4F0-E11FAC11D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41C95-8403-48CA-AB85-494F07545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6F57B-3BBA-40CE-ACC8-26F0C85FC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66073-6CFE-41A4-B97C-432F1E742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483D5-95EB-48DB-8274-B6463E12B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B2CF7-B198-423C-AD08-1FF40490B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605CD-A7A2-462D-8791-CEA484E49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6319C-C490-465D-8748-9DAC0C750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86B08-5234-42A9-9E17-101C91384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B06B1-F903-4B54-B31D-958C35041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6BF39-723E-44CA-ADF4-1394F6397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EC8D-360E-4B2F-8610-C1C7343CF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981C-E834-4C2A-87E3-4ADADD8FF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77CA-BA62-4E6E-BAC5-F8755056A5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663A-D609-44E2-932B-923EEFE874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images.buycostumes.com/mgen/merchandiser/61653.jpg&amp;imgrefurl=http://www.buycostumes.com/browse/Classic/New/_/N-1z141w7Z1z140zn/results1.aspx&amp;usg=__bneLQsx0Xe_2g0UjDpcHCI7h6iU=&amp;h=1306&amp;w=970&amp;sz=245&amp;hl=en&amp;start=23&amp;tbnid=-i0I9HIqxuVHFM:&amp;tbnh=150&amp;tbnw=111&amp;prev=/images%3Fq%3Ddog%2Bin%2Bsunflower%2Boutfit%26ndsp%3D20%26hl%3Den%26sa%3DN%26start%3D2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glish</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ing Day 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1981080" y="1066680"/>
            <a:ext cx="462924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1" descr="HIPPIES"/>
          <p:cNvPicPr/>
          <p:nvPr/>
        </p:nvPicPr>
        <p:blipFill>
          <a:blip r:embed="rId1"/>
          <a:stretch/>
        </p:blipFill>
        <p:spPr>
          <a:xfrm>
            <a:off x="1219320" y="1066680"/>
            <a:ext cx="6858000" cy="537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old_hippie_very_old_hippies_1"/>
          <p:cNvPicPr/>
          <p:nvPr/>
        </p:nvPicPr>
        <p:blipFill>
          <a:blip r:embed="rId1"/>
          <a:stretch/>
        </p:blipFill>
        <p:spPr>
          <a:xfrm>
            <a:off x="2438280" y="838080"/>
            <a:ext cx="41911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1" descr="sunflower"/>
          <p:cNvPicPr/>
          <p:nvPr/>
        </p:nvPicPr>
        <p:blipFill>
          <a:blip r:embed="rId1"/>
          <a:stretch/>
        </p:blipFill>
        <p:spPr>
          <a:xfrm>
            <a:off x="1766880" y="1557360"/>
            <a:ext cx="5610240" cy="374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61653">
            <a:hlinkClick r:id="rId1"/>
          </p:cNvPr>
          <p:cNvPicPr/>
          <p:nvPr/>
        </p:nvPicPr>
        <p:blipFill>
          <a:blip r:embed="rId2"/>
          <a:stretch/>
        </p:blipFill>
        <p:spPr>
          <a:xfrm>
            <a:off x="2362320" y="1447920"/>
            <a:ext cx="4343400" cy="41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8" descr=""/>
          <p:cNvPicPr/>
          <p:nvPr/>
        </p:nvPicPr>
        <p:blipFill>
          <a:blip r:embed="rId1"/>
          <a:stretch/>
        </p:blipFill>
        <p:spPr>
          <a:xfrm>
            <a:off x="-2171880" y="-790560"/>
            <a:ext cx="13487760" cy="843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2" descr=""/>
          <p:cNvPicPr/>
          <p:nvPr/>
        </p:nvPicPr>
        <p:blipFill>
          <a:blip r:embed="rId1"/>
          <a:stretch/>
        </p:blipFill>
        <p:spPr>
          <a:xfrm>
            <a:off x="1338120" y="1285920"/>
            <a:ext cx="6467760" cy="428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1" descr="babies"/>
          <p:cNvPicPr/>
          <p:nvPr/>
        </p:nvPicPr>
        <p:blipFill>
          <a:blip r:embed="rId1"/>
          <a:stretch/>
        </p:blipFill>
        <p:spPr>
          <a:xfrm>
            <a:off x="2076480" y="1557360"/>
            <a:ext cx="499104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5" descr="oreillyno"/>
          <p:cNvPicPr/>
          <p:nvPr/>
        </p:nvPicPr>
        <p:blipFill>
          <a:blip r:embed="rId1"/>
          <a:stretch/>
        </p:blipFill>
        <p:spPr>
          <a:xfrm>
            <a:off x="1828800" y="990720"/>
            <a:ext cx="556272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funny%2Bfaces"/>
          <p:cNvPicPr/>
          <p:nvPr/>
        </p:nvPicPr>
        <p:blipFill>
          <a:blip r:embed="rId1"/>
          <a:stretch/>
        </p:blipFill>
        <p:spPr>
          <a:xfrm>
            <a:off x="1066680" y="914400"/>
            <a:ext cx="655344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genda</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ver Wik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ver AR requiremen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DO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on descriptive writing, paper bag assignmen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images assignment</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story assig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deck1"/>
          <p:cNvPicPr/>
          <p:nvPr/>
        </p:nvPicPr>
        <p:blipFill>
          <a:blip r:embed="rId1"/>
          <a:stretch/>
        </p:blipFill>
        <p:spPr>
          <a:xfrm>
            <a:off x="419040" y="1047600"/>
            <a:ext cx="8305920" cy="476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ShowLetter"/>
          <p:cNvPicPr/>
          <p:nvPr/>
        </p:nvPicPr>
        <p:blipFill>
          <a:blip r:embed="rId1"/>
          <a:stretch/>
        </p:blipFill>
        <p:spPr>
          <a:xfrm>
            <a:off x="1714680" y="717480"/>
            <a:ext cx="5715000" cy="542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64_building5[1]"/>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work</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looking at the pictures, choose one to create a story about. Add details and be descriptiv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e at the beginning of class tomorrow, you have the rest of class to work on i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L-commas, spelling</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r Mitchells hole address is 209 Buena Vista Avenue Northport NE 68409 but you listed the street address as 209 Buena Vista Drive</a:t>
            </a:r>
            <a:endParaRPr b="0"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fter eight hours fifty one miles and three sets of locks you can pass through the Panama Canal but first you have to pay a toll which can be as much as $100000 for a large cruise ship.</a:t>
            </a:r>
            <a:endParaRPr b="0"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ies:</a:t>
            </a:r>
            <a:endParaRPr b="0" lang="en-US" sz="24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biologist : microscope : : _____________ : telescope</a:t>
            </a:r>
            <a:endParaRPr b="0" lang="en-US" sz="24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__________ : donkey : : Republican : elephant </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swer Key</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r</a:t>
            </a:r>
            <a:r>
              <a:rPr b="0" i="1" lang="en-US" sz="2400" spc="-1" strike="noStrike">
                <a:solidFill>
                  <a:srgbClr val="ffffff"/>
                </a:solidFill>
                <a:latin typeface="Arial"/>
              </a:rPr>
              <a:t>.</a:t>
            </a:r>
            <a:r>
              <a:rPr b="0" lang="en-US" sz="2400" spc="-1" strike="noStrike">
                <a:solidFill>
                  <a:srgbClr val="ffffff"/>
                </a:solidFill>
                <a:latin typeface="Arial"/>
              </a:rPr>
              <a:t> Mitchell’s whole address is 209 Buena Vista Avenue, Northport, NE 68409, but you listed the street address as 209 Buena Vista Driv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fter eight hours, fifty-one miles, and three sets of locks, you can pass through the Panama Canal, but first you have to pay a toll, which can be as much as $100,000 for a large cruise ship.</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biologist : microscope : : Astronomer: telescop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Democrat : donkey : : Republican : elephant </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criptive writing</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ork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ignment 2</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notebook (the one you will use only for English) write a one sentence description of what you think is in the paper bag. You may not look, you will not use your sense of s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age Assignment</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notebook (the one you will use ONLY for English) write the first thing that pops into your head when you look at the images. We will go through the images twice. Be descriptive, what emotion does the image make you have, what does it remind you of, et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it’s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5" descr="ocean alive"/>
          <p:cNvPicPr/>
          <p:nvPr/>
        </p:nvPicPr>
        <p:blipFill>
          <a:blip r:embed="rId1"/>
          <a:stretch/>
        </p:blipFill>
        <p:spPr>
          <a:xfrm>
            <a:off x="380880" y="1066680"/>
            <a:ext cx="845820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6" descr=""/>
          <p:cNvPicPr/>
          <p:nvPr/>
        </p:nvPicPr>
        <p:blipFill>
          <a:blip r:embed="rId1"/>
          <a:stretch/>
        </p:blipFill>
        <p:spPr>
          <a:xfrm>
            <a:off x="1752480" y="1066680"/>
            <a:ext cx="571500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9:06:42Z</dcterms:created>
  <dc:creator>rebecca</dc:creator>
  <dc:description/>
  <dc:language>en-US</dc:language>
  <cp:lastModifiedBy>vhs</cp:lastModifiedBy>
  <dcterms:modified xsi:type="dcterms:W3CDTF">2010-08-17T20:43:21Z</dcterms:modified>
  <cp:revision>4</cp:revision>
  <dc:subject/>
  <dc:title>English</dc:title>
</cp:coreProperties>
</file>